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0209-408A-42CA-AFBF-7A2FA70D9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B26-8C44-4FB9-BB0C-BAB8DDB97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59AF-4374-4FA1-A2C6-B1D91C4AE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687A5-9012-4A0F-BC19-2BA8ECD6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29917-3B0E-4784-8F7C-575CFC9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F51B8-6955-4C42-B11E-DBE6B870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28FC-C9C4-42F1-BE55-7509A80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0961-D658-4B8F-8249-255475C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A1806-7BC7-4928-A663-9831D632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3F8BF-6F15-4C91-8A6F-EF27CCFD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9CED3-0D29-4A1B-9CC6-735DA0CE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AA53-47FC-4611-A9C3-19463D0B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C7726-3195-4839-86A8-C1E43445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22E9-BB95-4382-9D98-ABFBD439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47C21-542A-478F-B0A2-EE820D66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8967F-DCC6-4006-A840-EF46B6A0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5AA58-C892-4EB0-9F12-8483643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AD417-8F4C-4628-8672-A8E00AA8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93112-D6B4-4F50-B73F-20E0684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D4183-9F55-4364-A797-CD3D392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56331-423D-45A0-BACE-A02F0448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DFBD6-A435-4E2D-A02E-AB0E1077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3E354-9BB8-4B86-96EF-2CDF0708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A559D-A6FD-4D59-A8FD-502A54A2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4AE43-5B11-4384-9D1A-A1023B6F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A31E0-C7AE-40F3-9228-0A5B40D7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96E29-0432-4380-A0BB-D416FC70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E839B-691E-4189-BD63-A5E7C10D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B3F74-049D-41AD-A9CD-FE4EA07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A253C-860D-4641-9C07-E1638329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4D2A7-9B5A-494F-9E13-6BFBCDD6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960CE-9C04-479F-AAF2-77D714F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05BC4-F458-46E6-8E9E-0CA67283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8F2-39AA-417C-A5B1-69BB7BCA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795AF-0C95-45B6-8351-158CAEBB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0D238-F121-4F65-8B97-B0735FCF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9D57D-D938-47CC-9260-1BAB872B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F5963-27B6-43B4-992E-B398FB73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CEAC3-8082-479E-8546-78DB2A13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FF596-A004-488B-A543-9B6264D1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1C9B2-F33B-4898-8577-19A1391A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6C214-618B-4939-BC42-71643901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EA3B1-9BFC-4655-A718-992EB6B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2405-82AD-4D9D-A598-A88D375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830-9CFA-49EC-9E6B-5C6E753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8F8A6-C204-4734-9FD8-BFA0EBEC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20EFB-F776-4DC5-9913-8A20E6A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C637A-E21D-4CAE-B603-8CEAC8B2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8D223-3268-447C-9D67-6A12A6CA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1E5C2-E9EE-4854-86FF-89EB9E98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5A6-F73F-4146-9C8F-DD11D089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6CF-83DC-4258-8252-7751401C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797-3D79-41C9-A59D-2F714F89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69D-124F-4ED4-A9C8-3CBF0AF7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D07-B343-4ADE-A24C-EA86D0AE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F3F-5FF9-4314-B29B-BDF5287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D54-C174-49C3-AF90-556235AF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194-F657-4802-BE18-84D68E38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CB7-C163-4E0C-943B-6914E95C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8FE-D60B-4CDC-9F74-11ECADC3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23F0-8D52-46A9-B451-79E1D5C7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A8BA-E5B4-4D05-B152-5BEC94DD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1F63-4D11-4ADC-9B04-EE608D24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FF25-6DDF-4904-A3B4-09E0C74E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23D-F574-471E-84DF-C5CA29A0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3644-13C9-4392-99C6-5D8C2C4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5C05-7AC9-40D5-A0B5-F6A88814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BF32-3030-424B-BC0C-417FDD77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28ED-08E4-464E-83D1-30A8B808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33A4-8D47-4809-8F2B-741334C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7245-9676-4AC5-A169-453F5FBA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6C8B-DE40-4A5C-9B54-1E3C8EE9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757D-6CCC-4309-AE3F-94185EE5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061D-6745-4195-B9F6-21734ED0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C9D1-234B-457C-8D7A-1813F2C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1C30-4D06-459D-80FB-CAFC019C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E28B-686E-4919-A83B-0F64346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3239-0A9A-48F5-B9AB-E669BAC8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B85D-FDA7-4A01-9626-4052E67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75D8-7FC5-4B9D-8CD4-B4B6D54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AFF6-1439-4CB4-9B6D-F0BC2BC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D114-D28D-483C-9CE5-095A0613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EA2D5-BBA7-4966-97A9-DB752231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F577-C558-445F-B1F7-89B361CD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281E-2CE6-43B7-8CBC-9B7F01CD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2340-020F-4981-9100-BA3D5E50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F04A-4516-4D1D-BC3F-F2E92219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EA37-B73A-4E57-B4ED-5E6D884F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74A4-DD51-4DC7-8AAF-BFF2C43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1337-3F27-4BCE-B667-121D253F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E6BF-4CFA-4D76-9B9E-D7904EF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CA44-410C-47AE-B822-989D7B3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5C2D-85F0-402B-957A-6E54FCF6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8DB7-41FD-40F3-A02D-11115111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93AD-5C33-40D4-A402-2C37306A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DD57-B243-43FE-8526-EA131667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4F9D5-5B59-4501-9734-BB2F24F2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A025-0610-422F-948F-FE5400F3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5089B-05FA-4330-AE26-E3F36100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8DCE-0E95-4F5D-90CF-BBF1C11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CC93-C90E-46CB-BCDA-E22EBEC7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6EBE-B9D5-40D8-ABBA-B415D606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DF3D3-382D-4E27-AC1F-DC122A5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841F-85CC-4B50-809D-1A18584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5C90A-2889-4C67-8F91-ADF47C86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68F2A-A4C0-495C-9369-E4F8A68E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F21D1-9DB1-4DA7-A703-B5902AEF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997FD-154E-4D4B-9AD7-3DBFAB7A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218D-D354-4594-BF31-A79F5E83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55F8-A45C-4BD5-8D37-67B7821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6AB4C-0299-4681-B5E6-E937B28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1EE8-655E-411B-A7BD-9BB04F63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B6C5-7C1A-4F1C-9CE3-A6CB364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E6474-1DCA-4B16-9550-C6E633F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FD84-AE0D-40F4-8C8A-60A6A225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C9370-BE76-42B3-BC8F-BE5CE38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EF4D6-9B26-422F-9068-00F1532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C632-9804-4567-B15E-FFF62206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1317-45A0-4A0D-9528-AB40672F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E667A-45CB-4C6D-A4A6-74E40D86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E4467-4114-4345-9C0B-6464AAF6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1F0C6-37E8-489A-9EE6-99C2DEA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F8707-6D0D-437B-95AB-D4C4816B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6809-507F-48AD-8E07-582E3DD1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1913A-8642-4C52-A1F8-60096F0F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485D0-AEE5-44CA-B5C4-760000A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C930-6216-4EFF-83E1-DBD7DDD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EC216-0DB8-4DAB-BEEC-3C3A130D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546D-B15D-4DC5-B1CA-657DA55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7B939-733D-4D5A-9D08-3ECFF9EB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D2B6-D60F-40A3-886F-29B8C51E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82342-39A1-47AE-9FA5-04CF2631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CEA3C-5518-4463-BA50-300ABF95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44FD3-0B8E-4971-86B1-3D50EB0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CDBF1-827B-4F47-A5AB-8F04EA97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AAF1-3D29-4DC1-A2EF-38E0D39D5A0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7248-831E-49A4-8AFD-09BC2134801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0A8F-A60E-46A6-8DB8-9644F341E4A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BE32-028E-47AA-A9F1-9BAC1290EEA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2A6-1511-451D-A6C8-112CEB58686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7419-6189-410C-AFD0-C71F8E5CC24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46F-AF75-425D-B980-3A56C140792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8B2E-9301-46F6-9712-83003F59E04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A2F9-D8B6-4FAD-9CA7-AAF6C7AAB94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8F97-17EC-4E33-9DFC-F7892FD53C5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CF64-59D9-4820-AC43-09874A5A527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428480" y="2071440"/>
            <a:ext cx="642924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898989"/>
                </a:solidFill>
                <a:latin typeface="Arial"/>
                <a:ea typeface="Arial"/>
              </a:rPr>
              <a:t>The never-ending battle: How do I get larger elective classes?</a:t>
            </a:r>
            <a:endParaRPr b="0" lang="en-US" sz="3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1042920" y="3789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esented by Alicia Hoy and Victoria Bro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7 German 2010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Bremen Town Musicians pla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Food Incursion end of Year 7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Pretzels ordered and baked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The French kitchen profiteroles, brie, baguett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All Year 7 and 8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In 2011, All Year 7, 8 classes Language Perfect World Championship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8 German 2011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ake competi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German club (film competition)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ood excurs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2857320" cy="244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C:\Users\axh\Pictures\Car-Lover-Cupcakes.jpg"/>
          <p:cNvPicPr/>
          <p:nvPr/>
        </p:nvPicPr>
        <p:blipFill>
          <a:blip r:embed="rId2"/>
          <a:stretch/>
        </p:blipFill>
        <p:spPr>
          <a:xfrm>
            <a:off x="3924360" y="3738600"/>
            <a:ext cx="4889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8 Fren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‘</a:t>
            </a: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arrot’ to be videod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lashcards – 2 size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rench club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ood excurs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Senior Class Cul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Relationship is the ke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Inspiring a love of the languag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Exchange opportun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SW Governor-General’s Australia-Germany scholarship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ACEL have come to address our school with many students attending and making plans for exchange from end of Year 9 for France and German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outhern Cross to Franc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New Initia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Identitie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rench Club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Different approach to teach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Teaching for Understand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ou are it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ou are the face of your languag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700360" y="2498760"/>
            <a:ext cx="5249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Introduc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Victoria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Alicia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1 minute ‘Vent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1681200" y="21337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William Clarke in Contex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orth-west Sydne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o ESL programme, so they learn their 1</a:t>
            </a:r>
            <a:r>
              <a:rPr b="0" lang="en-AU" sz="32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 and perhaps only languag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K-10 Japanese, 5-12 French and German on a biannual offer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ear 9, only 2 electives chosen. Choose by June. Min. 10 students for a clas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ear 11, min. 5 students for a class.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5 and 6 – Picnic Da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Whole unit based around a cumulative event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Event given as a ‘carrot’ at the beginning of the uni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All activities/lessons add a new piece to the puzzle.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All activities geared towards the event. Eg. invitations, food, activities at the picnic, items to br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inal lesson was the Picnic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Fashion Parade</a:t>
            </a: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imilar to the Picnic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tudents divided into teams at the beginning of the uni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tudents empowered through choice of clothing and so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lassroom set up as ‘catwalk’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Presentation in final less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Family Powerpo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Limited number of family members: 5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Each lesson included a new concept to include to describe family member. Name, relationship, description of personality.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Gave students five weeks warning before starting this unit to start organising digital photos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Whole lesson on presentations. Writing and Speaking skill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2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All-round fun – student feedback</a:t>
            </a: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Toothbrush assessmen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ou-tube clips for Festivals uni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Puzzles of map of Germany and Franc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Quizzes in clas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chnappi, Alouett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7 French 2011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12 month projec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hoose character and choose your own adventur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ultural elements and learning from classroom included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0:11:55Z</dcterms:created>
  <dc:creator>bgs</dc:creator>
  <dc:description/>
  <dc:language>en-US</dc:language>
  <cp:lastModifiedBy>William Clarke College</cp:lastModifiedBy>
  <dcterms:modified xsi:type="dcterms:W3CDTF">2012-05-18T01:36:29Z</dcterms:modified>
  <cp:revision>45</cp:revision>
  <dc:subject/>
  <dc:title>ABW</dc:title>
</cp:coreProperties>
</file>